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7297560" y="6519960"/>
            <a:ext cx="187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3a4c69"/>
                </a:solidFill>
                <a:latin typeface="Arial"/>
              </a:rPr>
              <a:t>Oxford University Press España, S.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080" y="651816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a4c69"/>
                </a:solidFill>
                <a:latin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3160" y="662292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3160" y="664524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624720"/>
            <a:ext cx="404028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643800"/>
            <a:ext cx="404028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8120" y="830160"/>
            <a:ext cx="8834760" cy="5448240"/>
          </a:xfrm>
          <a:prstGeom prst="roundRect">
            <a:avLst>
              <a:gd name="adj" fmla="val 1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633760" y="6154560"/>
            <a:ext cx="66600" cy="954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653200" y="6094440"/>
            <a:ext cx="40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ESIONE LA BARRA ESPACIADORA PARA AVANZAR EN LOS CONTENI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7783560" y="264960"/>
            <a:ext cx="1074600" cy="500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1150920" y="6543720"/>
            <a:ext cx="1909800" cy="18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960" y="216000"/>
            <a:ext cx="532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QUÍMICO 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ión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44480"/>
            <a:ext cx="1471320" cy="49068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caracteriza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112920"/>
            <a:ext cx="8534160" cy="49068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enlace iónico se basa en 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ferencia de electro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consiste en 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racción electrostáti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los iones positivos y negativ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513480" y="1555920"/>
            <a:ext cx="2082960" cy="687240"/>
            <a:chOff x="6513480" y="1555920"/>
            <a:chExt cx="2082960" cy="687240"/>
          </a:xfrm>
        </p:grpSpPr>
        <p:sp>
          <p:nvSpPr>
            <p:cNvPr id="53" name=""/>
            <p:cNvSpPr/>
            <p:nvPr/>
          </p:nvSpPr>
          <p:spPr>
            <a:xfrm>
              <a:off x="6513480" y="1806480"/>
              <a:ext cx="596880" cy="149400"/>
            </a:xfrm>
            <a:prstGeom prst="rightArrow">
              <a:avLst>
                <a:gd name="adj1" fmla="val 50000"/>
                <a:gd name="adj2" fmla="val 99880"/>
              </a:avLst>
            </a:prstGeom>
            <a:solidFill>
              <a:srgbClr val="ab2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23040" y="1555920"/>
              <a:ext cx="1373400" cy="687240"/>
            </a:xfrm>
            <a:prstGeom prst="rect">
              <a:avLst/>
            </a:prstGeom>
            <a:solidFill>
              <a:srgbClr val="fdfbe5"/>
            </a:solidFill>
            <a:ln w="12600">
              <a:solidFill>
                <a:srgbClr val="ab21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MET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+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NO MET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04920" y="2646360"/>
            <a:ext cx="8534160" cy="30492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RMACIÓN DEL ENLACE I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97120" y="3743280"/>
            <a:ext cx="1471680" cy="490680"/>
          </a:xfrm>
          <a:prstGeom prst="rect">
            <a:avLst/>
          </a:prstGeom>
          <a:solidFill>
            <a:srgbClr val="fdfbe5"/>
          </a:solidFill>
          <a:ln w="12600">
            <a:solidFill>
              <a:srgbClr val="ab21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b2180"/>
                </a:solidFill>
                <a:latin typeface="Arial"/>
                <a:ea typeface="ＭＳ Ｐゴシック"/>
              </a:rPr>
              <a:t>Formación del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4343400"/>
            <a:ext cx="3124080" cy="167652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sodio y el cloro tienden a alcanzar una estructura electrónica estable, consiguiendo 8 electrones en su última capa. De este modo el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 ce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 electrón qu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i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adquieren cargas eléctricas de signos opuestos y 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ra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diante fuerzas de atracción electrostát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914400"/>
            <a:ext cx="8534160" cy="30492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CANISMO DE UN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211640" y="1643040"/>
            <a:ext cx="2212920" cy="490680"/>
            <a:chOff x="4211640" y="1643040"/>
            <a:chExt cx="2212920" cy="490680"/>
          </a:xfrm>
        </p:grpSpPr>
        <p:sp>
          <p:nvSpPr>
            <p:cNvPr id="60" name=""/>
            <p:cNvSpPr/>
            <p:nvPr/>
          </p:nvSpPr>
          <p:spPr>
            <a:xfrm>
              <a:off x="4952880" y="1643040"/>
              <a:ext cx="1471680" cy="490680"/>
            </a:xfrm>
            <a:prstGeom prst="rect">
              <a:avLst/>
            </a:prstGeom>
            <a:solidFill>
              <a:srgbClr val="e8f5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 debe a la unión ent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11640" y="1784520"/>
              <a:ext cx="596880" cy="149040"/>
            </a:xfrm>
            <a:prstGeom prst="rightArrow">
              <a:avLst>
                <a:gd name="adj1" fmla="val 50000"/>
                <a:gd name="adj2" fmla="val 100121"/>
              </a:avLst>
            </a:prstGeom>
            <a:solidFill>
              <a:srgbClr val="ab2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873080" y="1643040"/>
            <a:ext cx="2151360" cy="490680"/>
            <a:chOff x="1873080" y="1643040"/>
            <a:chExt cx="2151360" cy="490680"/>
          </a:xfrm>
        </p:grpSpPr>
        <p:sp>
          <p:nvSpPr>
            <p:cNvPr id="63" name=""/>
            <p:cNvSpPr/>
            <p:nvPr/>
          </p:nvSpPr>
          <p:spPr>
            <a:xfrm>
              <a:off x="2552760" y="1643040"/>
              <a:ext cx="1471680" cy="490680"/>
            </a:xfrm>
            <a:prstGeom prst="rect">
              <a:avLst/>
            </a:prstGeom>
            <a:solidFill>
              <a:srgbClr val="e8f5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ransferencia de electr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73080" y="1792440"/>
              <a:ext cx="597240" cy="149040"/>
            </a:xfrm>
            <a:prstGeom prst="rightArrow">
              <a:avLst>
                <a:gd name="adj1" fmla="val 50000"/>
                <a:gd name="adj2" fmla="val 100181"/>
              </a:avLst>
            </a:prstGeom>
            <a:solidFill>
              <a:srgbClr val="ab2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04920" y="4343400"/>
            <a:ext cx="3124080" cy="1676520"/>
            <a:chOff x="304920" y="4343400"/>
            <a:chExt cx="3124080" cy="16765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396720" y="4483080"/>
              <a:ext cx="28958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04920" y="4343400"/>
              <a:ext cx="3124080" cy="1676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" name=""/>
          <p:cNvCxnSpPr>
            <a:stCxn id="56" idx="1"/>
            <a:endCxn id="67" idx="0"/>
          </p:cNvCxnSpPr>
          <p:nvPr/>
        </p:nvCxnSpPr>
        <p:spPr>
          <a:xfrm flipV="1" rot="10800000">
            <a:off x="1866960" y="3988440"/>
            <a:ext cx="1730520" cy="355320"/>
          </a:xfrm>
          <a:prstGeom prst="bentConnector2">
            <a:avLst/>
          </a:prstGeom>
          <a:ln w="12600">
            <a:solidFill>
              <a:srgbClr val="ab21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6" idx="3"/>
            <a:endCxn id="57" idx="0"/>
          </p:cNvCxnSpPr>
          <p:nvPr/>
        </p:nvCxnSpPr>
        <p:spPr>
          <a:xfrm>
            <a:off x="5068800" y="3988440"/>
            <a:ext cx="1980000" cy="355320"/>
          </a:xfrm>
          <a:prstGeom prst="bentConnector2">
            <a:avLst/>
          </a:prstGeom>
          <a:ln w="12600">
            <a:solidFill>
              <a:srgbClr val="ab21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7960" y="216000"/>
            <a:ext cx="532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QUÍMICO 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ión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676520"/>
            <a:ext cx="3551400" cy="86364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ompuestos iónicos no forman moléculas, sino agregados iónicos cuya ordenación espacial da lugar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es cristalinas geométr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092240"/>
            <a:ext cx="3581280" cy="43164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IEDADES DE LOS COMPUESTOS IÓN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6520" y="1701720"/>
            <a:ext cx="3570480" cy="43200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 sólidos cristalinos a temperatura 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6520" y="2346480"/>
            <a:ext cx="3570480" cy="43164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enen elevados puntos de fusión y ebull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6520" y="3008160"/>
            <a:ext cx="3570480" cy="43200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n gran dureza o resistencia a ser ray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6520" y="3654360"/>
            <a:ext cx="3570480" cy="25884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 frágiles y quebradiz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6520" y="5451480"/>
            <a:ext cx="3570480" cy="25884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yoría son muy solubles en 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6520" y="4151160"/>
            <a:ext cx="3570480" cy="43200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 buenos conductores de la electricidad cuando están fund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6520" y="4821120"/>
            <a:ext cx="3570480" cy="43200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 malos conductores de la electricidad en estado só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92240"/>
            <a:ext cx="3581640" cy="43164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D CRISTALINA IÓ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09480" y="2801880"/>
            <a:ext cx="3551400" cy="2905200"/>
            <a:chOff x="609480" y="2801880"/>
            <a:chExt cx="3551400" cy="29052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523880" y="3124080"/>
              <a:ext cx="1489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09480" y="2801880"/>
              <a:ext cx="3551400" cy="2905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01:51Z</dcterms:created>
  <dc:creator>iMac Runroom</dc:creator>
  <dc:description/>
  <dc:language>en-US</dc:language>
  <cp:lastModifiedBy>Mamá</cp:lastModifiedBy>
  <dcterms:modified xsi:type="dcterms:W3CDTF">2011-11-09T19:50:39Z</dcterms:modified>
  <cp:revision>48</cp:revision>
  <dc:subject/>
  <dc:title>Presentación de PowerPoint</dc:title>
</cp:coreProperties>
</file>